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7961-4F61-43B0-BFF5-C8D0E6542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AF8-1A2A-4DAA-B745-2A0C0B0B9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uring transformation, a cell incorporates DNA from outside the cell into its own DN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ne way to use bacteria to produce human growth hormone is to insert a human gene into bacterial DNA. The new combination of genes is then returned to a bacterial cell. The bacterial cell containing the gene replicates over and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BAC-95FA-4017-B22A-7C8CA0A72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u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grobacterium tumefacie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an be used to introduce foreign DNA into plant cells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 the transformation is successful, the DNA will be integrated into one of the cell’s chromos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675-0170-4AEC-8BDE-F5D4B6AE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937-A290-40D9-B4D0-5E702B6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D54-ADF9-4400-9456-7A586CA3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C76-88E3-4C14-9D32-B6B73640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A28-4AB2-47E1-BB66-203F8BFE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44D-1B46-4786-8641-CC6AC7A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22B-1A89-4A75-BE29-01AFE2B9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FB05-EDB5-4599-A036-FD1B5241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3DB-39DD-4594-AFA7-7AE1603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3DB-9E87-42AE-AA1F-188328A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1AA2-3BDA-4C3D-A674-16E0895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0F3-163A-4BD4-B1F6-B11395E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66C-6748-4A5B-8DBE-4E0E869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2AE-5B91-4B49-A363-C94BE03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13EB-6E3D-4962-8572-C3F56BC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775-C503-433C-A95F-4201238E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70BC-F8B4-4F79-917C-72F62C97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47FD-9FAB-4FBB-B475-DE0389D3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62A4-AA51-444B-A886-E27226E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1D84-F5EA-4E55-B471-69B79602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C23C-710D-4AE5-905B-9E3B645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C9FA-4CDA-441C-B2BC-1B6DEE9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582-3ACD-440B-B6E1-C5EEE1A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115A-33D0-421D-A134-CF5FDC6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E74E-3C81-4500-9E05-C57B400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C814-A08A-45F4-9571-44E9E2C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1705-39FD-462B-AA8A-4E0CF17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53D5-432A-4E04-BA41-A2D21F9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B48C-2807-4095-8125-4B93FF8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D921-93DB-4BF1-A77E-44BD821C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C3B5-6057-4B69-9975-A7EA1159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E0B1-C4D1-4DE1-836E-38D24B67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03D8-04F2-43DB-BFBE-E506DEAA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66A-DC79-4E4E-BE1C-C562503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156B-8606-4EEF-8EFE-176EE4F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4B59-2A92-471A-A181-B5ACBF5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8604-D5AD-4CE4-8DD1-B8043D29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EFC9-E342-479E-A603-C304AD7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7EBC-D8B7-4B3F-A80E-9AAEE2B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9B5B-8403-4BA5-8DA6-347DBA4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2EF5-B9E2-4EDF-B1AF-A0F0AF94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89D9-70C5-4F9E-9D59-C2CED9F1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CE74-E763-4420-9EF6-DAE06B66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A3E0-7C9F-4936-BF27-DD487A10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E3D-8FC8-41A1-B286-764A953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2C3DC-EA77-4583-8E53-D1D5806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FA6B-570E-4A90-88D9-09A76452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8EE54-1FE3-4CAE-8ACC-8FDAC577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1EF7D-9927-4656-9334-21D71CC3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39C9E-484F-434F-8FC3-413A48D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50AD1-87F6-4E74-9992-7CB6BD5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A3CB-97BD-4035-9952-04215D1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2D58-A542-4FF0-952C-8B793A3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FC19-EAC7-44BB-906F-69592CF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8D0BC-2B66-4463-AFEA-8548FE46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0F3-C997-4DED-92FA-73BA44F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FC61-BFDD-49A1-986C-7726E288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E5E8-CAA6-437D-A882-FB71ACD9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66EF-BCE5-4981-B4CC-76C461A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29F7-0A27-4C98-9AC6-B90E4AA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3119-46F6-4A25-8EA2-5FA48C9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97C2-F39C-4D7D-8718-CB2A208E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4616-1A82-4DDB-BB7D-9053425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45DD-E4CA-4D80-A811-A48C6A7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DB22-FE38-4EB4-96B1-78FEDDDA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FC8A-8E6E-4756-A905-41CBE47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068-4F78-421E-8AC9-941CE2E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7616-6B06-4C55-B79B-3C533D5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4A79-C957-42D3-8922-9F4EA0CC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2C0D-F81F-4161-94EB-C27C1E53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90A2-374D-4348-9B73-F0466754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D644-6481-4C1C-BF15-8E1079C4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844A6-4AB3-4EDB-913C-5FAE118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BC1C-B5B4-4E9A-8386-086D1C7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EB94-0D58-4E57-9733-28D1F71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926A-3670-4CB3-883E-BBF1D54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E27C-DA9B-424A-A355-192AFA9A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398-E960-4C7B-A70B-036CD4D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8FD04-5452-4222-ADA6-C0FDACB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6B7A-4EE9-48E0-BDF3-9FFADF5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FABD-575E-45EB-A8B5-75296C64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9D21-514B-4173-B5E3-38CA1082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1EC7-E0F0-49DD-9A92-E3F9472D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8B81-1BB1-4014-A76B-5B36B2AF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1421-985D-4030-8045-B510C20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56936-43F3-4316-9709-0C65CA8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F152-4095-4FEA-A469-851AC402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C540A-6C1E-42DA-A334-5EE67BF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5FF-F34B-4D55-A37E-BF6B78C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968E7-9920-4FAA-A630-913CE7F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C2A9-8546-4EA4-AF9F-49DFA81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0007-0A74-422D-823C-111736E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CEF6-2CB2-4741-B681-192A7D1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4C386-D7CC-42B3-A566-E19350D7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FE74-062E-4E05-BAAB-F7D14932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09511-85C3-429E-A803-AA7CD388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45D2-F969-4996-8ACC-A1E9F53B95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29D-707E-4585-9DCD-E0AC3341BAD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938-0D47-48A7-9D26-1D76A441AB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C1E-8B4C-4153-965E-8623351636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CFF2-99CC-40B6-82E7-1E31F6358B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DEF9-3CB4-43AB-AAE6-E2D5E283D4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D6B-CE44-4479-A828-C44FBBBE3B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44E-A9BB-421D-B1A9-454074826A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MC7c2T8fVk" TargetMode="External"/><Relationship Id="rId2" Type="http://schemas.openxmlformats.org/officeDocument/2006/relationships/hyperlink" Target="http://www.youtube.com/watch?v=_YgXcJ4n-kQ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51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HMC7c2T8fV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youtube.com/watch?v=_YgXcJ4n-kQ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restriction enzymes make “sticky end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orks with any organism that has DNA as its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a result, sections of DNA from one organism can be spliced into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 is often used since it has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se are small, circular strands of DN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remo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iginal version is called a cloning vec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smids are easily removed and reinser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used these cloning vectors to engineer bacteria to produce proteins such as insulin and growth horm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83760" y="1450800"/>
            <a:ext cx="86425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8" descr="p327-5"/>
          <p:cNvPicPr/>
          <p:nvPr/>
        </p:nvPicPr>
        <p:blipFill>
          <a:blip r:embed="rId2"/>
          <a:stretch/>
        </p:blipFill>
        <p:spPr>
          <a:xfrm>
            <a:off x="4995720" y="3108240"/>
            <a:ext cx="2846520" cy="3011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p327-1"/>
          <p:cNvPicPr/>
          <p:nvPr/>
        </p:nvPicPr>
        <p:blipFill>
          <a:blip r:embed="rId3"/>
          <a:stretch/>
        </p:blipFill>
        <p:spPr>
          <a:xfrm>
            <a:off x="455760" y="1317600"/>
            <a:ext cx="2350800" cy="4992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p327-2"/>
          <p:cNvPicPr/>
          <p:nvPr/>
        </p:nvPicPr>
        <p:blipFill>
          <a:blip r:embed="rId4"/>
          <a:stretch/>
        </p:blipFill>
        <p:spPr>
          <a:xfrm>
            <a:off x="1552680" y="1228680"/>
            <a:ext cx="3138480" cy="5224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p327-4"/>
          <p:cNvPicPr/>
          <p:nvPr/>
        </p:nvPicPr>
        <p:blipFill>
          <a:blip r:embed="rId5"/>
          <a:stretch/>
        </p:blipFill>
        <p:spPr>
          <a:xfrm>
            <a:off x="4897440" y="1003320"/>
            <a:ext cx="3060720" cy="2781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p327-3"/>
          <p:cNvPicPr/>
          <p:nvPr/>
        </p:nvPicPr>
        <p:blipFill>
          <a:blip r:embed="rId6"/>
          <a:stretch/>
        </p:blipFill>
        <p:spPr>
          <a:xfrm>
            <a:off x="3789360" y="1763640"/>
            <a:ext cx="2309760" cy="35402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2"/>
          <p:cNvSpPr/>
          <p:nvPr/>
        </p:nvSpPr>
        <p:spPr>
          <a:xfrm>
            <a:off x="4152960" y="1098720"/>
            <a:ext cx="83808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2882880" y="4317840"/>
            <a:ext cx="83808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4998960" y="1112760"/>
            <a:ext cx="1265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4925880" y="1398600"/>
            <a:ext cx="6224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4800600" y="927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nt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492960" y="853920"/>
            <a:ext cx="1644480" cy="5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1"/>
          <p:cNvSpPr/>
          <p:nvPr/>
        </p:nvSpPr>
        <p:spPr>
          <a:xfrm>
            <a:off x="6784920" y="7970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2651040" y="1849320"/>
            <a:ext cx="179064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2514600" y="1882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74520" y="2917800"/>
            <a:ext cx="17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ma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0" y="381636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6"/>
          <p:cNvSpPr/>
          <p:nvPr/>
        </p:nvSpPr>
        <p:spPr>
          <a:xfrm>
            <a:off x="1717560" y="29494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6" descr="eco"/>
          <p:cNvPicPr/>
          <p:nvPr/>
        </p:nvPicPr>
        <p:blipFill>
          <a:blip r:embed="rId7"/>
          <a:stretch/>
        </p:blipFill>
        <p:spPr>
          <a:xfrm>
            <a:off x="2981160" y="4184640"/>
            <a:ext cx="755640" cy="563400"/>
          </a:xfrm>
          <a:prstGeom prst="rect">
            <a:avLst/>
          </a:prstGeom>
          <a:ln w="0">
            <a:noFill/>
          </a:ln>
        </p:spPr>
      </p:pic>
      <p:sp>
        <p:nvSpPr>
          <p:cNvPr id="416" name="Freeform 37"/>
          <p:cNvSpPr/>
          <p:nvPr/>
        </p:nvSpPr>
        <p:spPr>
          <a:xfrm>
            <a:off x="1562040" y="4143240"/>
            <a:ext cx="1314360" cy="5907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828" h="372">
                <a:moveTo>
                  <a:pt x="42" y="348"/>
                </a:moveTo>
                <a:lnTo>
                  <a:pt x="24" y="264"/>
                </a:lnTo>
                <a:lnTo>
                  <a:pt x="0" y="204"/>
                </a:lnTo>
                <a:lnTo>
                  <a:pt x="0" y="60"/>
                </a:lnTo>
                <a:lnTo>
                  <a:pt x="126" y="12"/>
                </a:lnTo>
                <a:lnTo>
                  <a:pt x="522" y="0"/>
                </a:lnTo>
                <a:lnTo>
                  <a:pt x="744" y="96"/>
                </a:lnTo>
                <a:lnTo>
                  <a:pt x="828" y="216"/>
                </a:lnTo>
                <a:lnTo>
                  <a:pt x="822" y="312"/>
                </a:lnTo>
                <a:lnTo>
                  <a:pt x="366" y="372"/>
                </a:lnTo>
                <a:lnTo>
                  <a:pt x="108" y="360"/>
                </a:lnTo>
                <a:lnTo>
                  <a:pt x="24" y="29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41"/>
          <p:cNvSpPr/>
          <p:nvPr/>
        </p:nvSpPr>
        <p:spPr>
          <a:xfrm>
            <a:off x="1467000" y="3552840"/>
            <a:ext cx="771480" cy="1162080"/>
          </a:xfrm>
          <a:custGeom>
            <a:avLst/>
            <a:gdLst>
              <a:gd name="textAreaLeft" fmla="*/ 0 w 771480"/>
              <a:gd name="textAreaRight" fmla="*/ 771840 w 7714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86" h="732">
                <a:moveTo>
                  <a:pt x="0" y="732"/>
                </a:moveTo>
                <a:lnTo>
                  <a:pt x="486" y="420"/>
                </a:lnTo>
                <a:lnTo>
                  <a:pt x="48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2"/>
          <p:cNvSpPr/>
          <p:nvPr/>
        </p:nvSpPr>
        <p:spPr>
          <a:xfrm>
            <a:off x="1298520" y="6122880"/>
            <a:ext cx="117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4"/>
          <p:cNvSpPr/>
          <p:nvPr/>
        </p:nvSpPr>
        <p:spPr>
          <a:xfrm>
            <a:off x="3724200" y="3019320"/>
            <a:ext cx="6285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3517920" y="290520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ticky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6"/>
          <p:cNvSpPr/>
          <p:nvPr/>
        </p:nvSpPr>
        <p:spPr>
          <a:xfrm>
            <a:off x="5118120" y="2838600"/>
            <a:ext cx="127620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5"/>
          <p:cNvSpPr/>
          <p:nvPr/>
        </p:nvSpPr>
        <p:spPr>
          <a:xfrm>
            <a:off x="5116680" y="2749680"/>
            <a:ext cx="181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4780080" y="5398920"/>
            <a:ext cx="225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 cell containing 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7128000" y="3232080"/>
            <a:ext cx="123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NA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2681280" y="1106640"/>
            <a:ext cx="83808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5" descr="eco"/>
          <p:cNvPicPr/>
          <p:nvPr/>
        </p:nvPicPr>
        <p:blipFill>
          <a:blip r:embed="rId8"/>
          <a:stretch/>
        </p:blipFill>
        <p:spPr>
          <a:xfrm>
            <a:off x="3897360" y="1041480"/>
            <a:ext cx="674640" cy="503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0" descr="eco"/>
          <p:cNvPicPr/>
          <p:nvPr/>
        </p:nvPicPr>
        <p:blipFill>
          <a:blip r:embed="rId9"/>
          <a:stretch/>
        </p:blipFill>
        <p:spPr>
          <a:xfrm>
            <a:off x="2759040" y="1050840"/>
            <a:ext cx="674640" cy="503280"/>
          </a:xfrm>
          <a:prstGeom prst="rect">
            <a:avLst/>
          </a:prstGeom>
          <a:ln w="0">
            <a:noFill/>
          </a:ln>
        </p:spPr>
      </p:pic>
      <p:sp>
        <p:nvSpPr>
          <p:cNvPr id="428" name="Line 52"/>
          <p:cNvSpPr/>
          <p:nvPr/>
        </p:nvSpPr>
        <p:spPr>
          <a:xfrm flipH="1">
            <a:off x="6791040" y="5533920"/>
            <a:ext cx="447480" cy="4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3"/>
          <p:cNvSpPr/>
          <p:nvPr/>
        </p:nvSpPr>
        <p:spPr>
          <a:xfrm flipH="1" flipV="1">
            <a:off x="4314600" y="3371760"/>
            <a:ext cx="4856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4"/>
          <p:cNvSpPr/>
          <p:nvPr/>
        </p:nvSpPr>
        <p:spPr>
          <a:xfrm flipH="1">
            <a:off x="4210200" y="2762280"/>
            <a:ext cx="14256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5"/>
          <p:cNvSpPr/>
          <p:nvPr/>
        </p:nvSpPr>
        <p:spPr>
          <a:xfrm flipH="1" flipV="1">
            <a:off x="5467320" y="1495440"/>
            <a:ext cx="10000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6"/>
          <p:cNvSpPr/>
          <p:nvPr/>
        </p:nvSpPr>
        <p:spPr>
          <a:xfrm flipV="1">
            <a:off x="7448400" y="1418760"/>
            <a:ext cx="478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57"/>
          <p:cNvSpPr/>
          <p:nvPr/>
        </p:nvSpPr>
        <p:spPr>
          <a:xfrm>
            <a:off x="3000240" y="5057640"/>
            <a:ext cx="16200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8"/>
          <p:cNvSpPr/>
          <p:nvPr/>
        </p:nvSpPr>
        <p:spPr>
          <a:xfrm flipH="1">
            <a:off x="885960" y="2584440"/>
            <a:ext cx="115920" cy="390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9"/>
          <p:cNvSpPr/>
          <p:nvPr/>
        </p:nvSpPr>
        <p:spPr>
          <a:xfrm flipH="1" flipV="1">
            <a:off x="928800" y="4092120"/>
            <a:ext cx="179280" cy="459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0"/>
          <p:cNvSpPr/>
          <p:nvPr/>
        </p:nvSpPr>
        <p:spPr>
          <a:xfrm>
            <a:off x="1276200" y="5848200"/>
            <a:ext cx="20988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1"/>
          <p:cNvSpPr/>
          <p:nvPr/>
        </p:nvSpPr>
        <p:spPr>
          <a:xfrm>
            <a:off x="0" y="0"/>
            <a:ext cx="20541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modified by adding foreign segments is called recombin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transform multicellular organisms such as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o so, microorganisms, such as bacteria and viruses, must be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a bacteria that causes tumors in plants can be altered so the tumor gene is replaced by a useful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ese methods can only work if the microorganism can insert its DNA into a h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4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5" descr="p328-4"/>
          <p:cNvPicPr/>
          <p:nvPr/>
        </p:nvPicPr>
        <p:blipFill>
          <a:blip r:embed="rId1"/>
          <a:stretch/>
        </p:blipFill>
        <p:spPr>
          <a:xfrm>
            <a:off x="4411800" y="1374840"/>
            <a:ext cx="2541600" cy="295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328-5"/>
          <p:cNvPicPr/>
          <p:nvPr/>
        </p:nvPicPr>
        <p:blipFill>
          <a:blip r:embed="rId2"/>
          <a:stretch/>
        </p:blipFill>
        <p:spPr>
          <a:xfrm>
            <a:off x="6496200" y="2506680"/>
            <a:ext cx="1806480" cy="2722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329-2"/>
          <p:cNvPicPr/>
          <p:nvPr/>
        </p:nvPicPr>
        <p:blipFill>
          <a:blip r:embed="rId3"/>
          <a:stretch/>
        </p:blipFill>
        <p:spPr>
          <a:xfrm>
            <a:off x="1712880" y="1590840"/>
            <a:ext cx="1897200" cy="159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p328-1"/>
          <p:cNvPicPr/>
          <p:nvPr/>
        </p:nvPicPr>
        <p:blipFill>
          <a:blip r:embed="rId4"/>
          <a:stretch/>
        </p:blipFill>
        <p:spPr>
          <a:xfrm>
            <a:off x="371520" y="266688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p328-3"/>
          <p:cNvPicPr/>
          <p:nvPr/>
        </p:nvPicPr>
        <p:blipFill>
          <a:blip r:embed="rId5"/>
          <a:stretch/>
        </p:blipFill>
        <p:spPr>
          <a:xfrm>
            <a:off x="3067200" y="3179880"/>
            <a:ext cx="1855800" cy="2747880"/>
          </a:xfrm>
          <a:prstGeom prst="rect">
            <a:avLst/>
          </a:prstGeom>
          <a:ln w="0">
            <a:noFill/>
          </a:ln>
        </p:spPr>
      </p:pic>
      <p:pic>
        <p:nvPicPr>
          <p:cNvPr id="446" name="Rectangle 6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9"/>
          <p:cNvSpPr/>
          <p:nvPr/>
        </p:nvSpPr>
        <p:spPr>
          <a:xfrm>
            <a:off x="6865920" y="5689440"/>
            <a:ext cx="120348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464160" y="5302080"/>
            <a:ext cx="21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plete plant generated from  transformed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6905520" y="658800"/>
            <a:ext cx="204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side plant cell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grobacterium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inserts part of its DNA into host cell chrom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341360" y="538308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ant cell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2932200" y="58086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nsformed bacteria introduce plasmids into plant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3836880" y="166356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grobacterium tumefaci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3976560" y="2583000"/>
            <a:ext cx="84312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3836880" y="256716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ellula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227160" y="175896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to be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2"/>
          <p:cNvSpPr/>
          <p:nvPr/>
        </p:nvSpPr>
        <p:spPr>
          <a:xfrm>
            <a:off x="384120" y="43959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nt 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 flipH="1" flipV="1">
            <a:off x="864720" y="2390760"/>
            <a:ext cx="478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 flipV="1">
            <a:off x="3543480" y="1999800"/>
            <a:ext cx="3427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2"/>
          <p:cNvSpPr/>
          <p:nvPr/>
        </p:nvSpPr>
        <p:spPr>
          <a:xfrm>
            <a:off x="3498840" y="2617920"/>
            <a:ext cx="376200" cy="6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3"/>
          <p:cNvSpPr/>
          <p:nvPr/>
        </p:nvSpPr>
        <p:spPr>
          <a:xfrm flipH="1">
            <a:off x="2857680" y="5041800"/>
            <a:ext cx="72072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4"/>
          <p:cNvSpPr/>
          <p:nvPr/>
        </p:nvSpPr>
        <p:spPr>
          <a:xfrm>
            <a:off x="2982960" y="5335560"/>
            <a:ext cx="72216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51"/>
          <p:cNvSpPr/>
          <p:nvPr/>
        </p:nvSpPr>
        <p:spPr>
          <a:xfrm>
            <a:off x="2859120" y="3062160"/>
            <a:ext cx="784080" cy="1278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484" h="787">
                <a:moveTo>
                  <a:pt x="36" y="0"/>
                </a:moveTo>
                <a:lnTo>
                  <a:pt x="183" y="74"/>
                </a:lnTo>
                <a:lnTo>
                  <a:pt x="237" y="37"/>
                </a:lnTo>
                <a:lnTo>
                  <a:pt x="320" y="92"/>
                </a:lnTo>
                <a:lnTo>
                  <a:pt x="311" y="302"/>
                </a:lnTo>
                <a:lnTo>
                  <a:pt x="484" y="540"/>
                </a:lnTo>
                <a:lnTo>
                  <a:pt x="411" y="787"/>
                </a:lnTo>
                <a:lnTo>
                  <a:pt x="183" y="732"/>
                </a:lnTo>
                <a:lnTo>
                  <a:pt x="0" y="12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2"/>
          <p:cNvSpPr/>
          <p:nvPr/>
        </p:nvSpPr>
        <p:spPr>
          <a:xfrm>
            <a:off x="1552680" y="2511360"/>
            <a:ext cx="493560" cy="493920"/>
          </a:xfrm>
          <a:custGeom>
            <a:avLst/>
            <a:gdLst>
              <a:gd name="textAreaLeft" fmla="*/ 0 w 493560"/>
              <a:gd name="textAreaRight" fmla="*/ 493920 w 49356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311" h="311">
                <a:moveTo>
                  <a:pt x="183" y="0"/>
                </a:moveTo>
                <a:lnTo>
                  <a:pt x="311" y="137"/>
                </a:lnTo>
                <a:lnTo>
                  <a:pt x="266" y="265"/>
                </a:lnTo>
                <a:lnTo>
                  <a:pt x="202" y="311"/>
                </a:lnTo>
                <a:lnTo>
                  <a:pt x="46" y="173"/>
                </a:lnTo>
                <a:lnTo>
                  <a:pt x="0" y="9"/>
                </a:lnTo>
                <a:lnTo>
                  <a:pt x="1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54"/>
          <p:cNvSpPr/>
          <p:nvPr/>
        </p:nvSpPr>
        <p:spPr>
          <a:xfrm rot="262800">
            <a:off x="3139560" y="3479760"/>
            <a:ext cx="324000" cy="771480"/>
          </a:xfrm>
          <a:custGeom>
            <a:avLst/>
            <a:gdLst>
              <a:gd name="textAreaLeft" fmla="*/ 0 w 324000"/>
              <a:gd name="textAreaRight" fmla="*/ 324360 w 32400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87" h="576">
                <a:moveTo>
                  <a:pt x="5" y="0"/>
                </a:moveTo>
                <a:cubicBezTo>
                  <a:pt x="2" y="46"/>
                  <a:pt x="0" y="93"/>
                  <a:pt x="14" y="165"/>
                </a:cubicBezTo>
                <a:cubicBezTo>
                  <a:pt x="28" y="237"/>
                  <a:pt x="58" y="362"/>
                  <a:pt x="87" y="430"/>
                </a:cubicBezTo>
                <a:cubicBezTo>
                  <a:pt x="116" y="498"/>
                  <a:pt x="151" y="537"/>
                  <a:pt x="187" y="576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important to know the order of nucleotides in a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cess of DNA sequencing (determining the order of nucleotides) uses processes foun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v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nside the cel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DNA polymerase adds complementary nucleotides to a single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ucleotides are found in high concentration in the c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0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ientists attempt to mimic this proces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tr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n a la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ength of DNA is first h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separates the two stra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 heat-resistant DNA pol is ad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inary A, C, T and G nucleotides are added in high concent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a special type of each nucleotide is also added in low concent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features make them uniq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y are fluorescently label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y lack two hydroxyl groups on carbon 2 and 3 (called dideox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77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label allows them to be detected when ran through a gel (more on this l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issing hydroxyls stops DNA pol from adding any more nucleotides past that poi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ddition of the modified nucleotides is always rand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tually, a set of labeled strands of all lengths is gene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ch ends with a dd nucleotide (one of four possible colour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ran through a gel, arranging them in order of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819000" y="1238400"/>
            <a:ext cx="75060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l is passed through a detector, determining the order of the nucel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, scientists want to make copies of a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 example, a small amount of DNA left at a crime sc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an be don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tr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rough a polymerase chain re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a three step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at to separate stra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oling to allow annealing of DNA pri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ition of nucleotides via DNA po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5:15:44Z</dcterms:created>
  <dc:creator>ED18</dc:creator>
  <dc:description/>
  <dc:language>en-US</dc:language>
  <cp:lastModifiedBy>ED18</cp:lastModifiedBy>
  <dcterms:modified xsi:type="dcterms:W3CDTF">2011-04-07T10:23:26Z</dcterms:modified>
  <cp:revision>8</cp:revision>
  <dc:subject/>
  <dc:title>Genetic Engineering</dc:title>
</cp:coreProperties>
</file>